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EB8-B8CA-4B7D-B0F1-852284E8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B92-07CF-4F4B-AE16-7EF26AF4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BB4A4-9480-4A3A-A797-5AEA1942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9B8D9-1381-4916-9076-08E26907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54217-D59E-4A93-B8D2-BF244A62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E19BA-4FAE-4B6B-AA5E-F440A2EC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4675E-F959-4B04-BAA8-DCB3AB2F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8CAAD-37C6-4731-9531-7FC63E97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D9248-8EC0-4518-9A88-6C8D220C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12E75-11CA-4B29-9C5B-531FDB9E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A6C22-170E-453C-92B6-00506047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78C26-F8BC-41CA-B500-74ED6FDA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073-27B1-40E4-9C88-410809EA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52F94-5985-46E1-81F7-F1F9BF5D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76492-6322-4D5B-BE7F-35457E6F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47195-0D97-4302-A595-BE8A2763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17CFE-0815-44D0-BFAC-18977B6B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A1383-4D5F-4571-8AED-AC365C53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33250-801C-4CE7-B228-43B6432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2DEE8-5775-4D77-A246-C451214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31436-4AF0-4A75-B649-35DAD281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9C892-3B9D-4D0B-9259-C554CBD2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BA3B5-3000-4794-86E6-FF936805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4FC-0CAC-4641-B2A1-E3426076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92CF5-C9F3-4256-B2F7-F956685C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B184C-2496-4AAA-AF3E-6DC942D7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42D0F-1282-4740-A7A7-73C77F01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0CA0E-B6D5-40D7-97E0-5FF5813C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CFA09-2EF8-4697-AA82-0D5DB159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F8D7A-951E-48B9-8B60-EB2FB529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26FCA-CE3A-4AF4-8BDF-C1410B5B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2C459-086B-4682-A00D-FC8F78FC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A8ECA-41DC-400D-8B30-DADBC229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DE65D-A2A3-49A9-9DB8-79E9224D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BE0B-31CD-4BD8-B8D3-AC805E93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60D57-2941-4AB8-81CC-DD4C18FE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DD8FD-AEF7-4860-8DE2-20112350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99E62-84AC-4AD0-8AE8-73023292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CE5E6-EC5D-4524-896B-8E994A7E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2D3AE-B7D9-4079-AB85-62BEF73B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C444E-7616-4014-A2CA-5A00F43D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28170-589C-434D-AA55-0F1015FC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9D61D-BB66-411F-8D60-6FC6DCDA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79EA7-9778-43D7-B890-98B45E1B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A713B-FF63-4294-8B20-FC1BEBBD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6382-0422-44A3-955E-853882E0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7E23A-BBB2-4308-A1F8-EC7F5F58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193E5-3E2F-47CA-9BFE-DAC930B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78317-11DC-4D99-A323-D7AA2646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68518-DA8D-412D-953F-298FEE22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D53F4-8A3F-439D-85C6-CB4062EA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F0F7-0478-47E5-AD1F-14E8D12D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DF16-BF94-4F71-B0FD-A3E1F33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04CA-4C32-4554-B202-766806A2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6388-A736-4852-8AB5-DEFE795F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9952-04C3-47BF-8A6C-D76CC4E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E64-BF09-4BE8-ACCB-B274CE5F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8383-718B-42B6-AC3E-C6DAA5A4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6F04-3092-499A-BED6-5C110B6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0B39-5AB1-4CA3-9480-4D92FD12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01CB-9BE7-4E93-9A1A-5233EB0B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083A-532F-492F-8047-AB409EFA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35BD-D1E3-4FE0-AFB2-B475490E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7564C-804A-4872-81BE-C1D3EE6D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6A594-36B3-4ED7-91DE-EE96D23A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8F10-FA54-42F8-9D50-52E68AE9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5A6E-41C4-441E-8664-9D752CF8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381-8B32-465D-B5B9-A5F5018A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1CFF-18A2-4B34-BA52-E3F3EB27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0096-9920-4A18-A442-BC8FC79C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8EA7-1C7E-4DC8-B630-091E5B94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D614-95CA-4651-913A-7903EB6B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7B31-AF7B-4997-B14F-68EBB85C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066E-62F6-451F-8701-9139BC3D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3521-7B4C-441D-BEE0-B344CF9D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A3EAE-6572-4AE0-92AF-B3E5EED8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CC5FF-2579-4297-99F8-4803174C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4DFBA-A492-42A9-B7F1-4E4558C7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FB2-2C5B-4B8D-AC3C-6F0A6DBC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8DA18-2C97-43F0-B81F-D3B6108F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0BCC-2D2D-4A20-8456-AC2CE7A8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8F58-9B66-49BD-A1C9-2B9A67B0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6EC1-D094-47E8-9072-FA4691F5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3741-CBD7-41EC-9A12-EE59D5DC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8ACD-EE95-4F12-8BE9-71F69668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F56A-018A-4598-9192-4D2B38B9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9C99-7671-449D-96A1-85BAEF0B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249E1-6546-4D4C-AFD5-C8E5D3C1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286EB-99A2-4671-B509-7A810F1C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293-F9DC-4CDD-920B-87C8B68E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2CBEE-1903-4A83-8E25-DC2F2378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3FF2-BAE7-46BD-8FBD-2CBD8086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35B76-ED03-4595-94BA-D4DFED44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8BA66-5194-4B7C-AC4A-45763DE6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8976E-1394-48E4-BF14-EC98531E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0D2CC-39B7-4286-8182-2DFFE81D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7BD7-31B5-4496-ABB6-F66390E2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BC2D-AFF0-41E7-879C-AF0FF818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4D2FE-1675-426C-B8D2-72E24048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89058-7115-4348-8C4F-EC0D145B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9E0-85B5-4A32-9127-29C396F7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E142-AE11-45EB-98A9-3B209C58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016E5-7126-45F9-B8CF-33C1DB76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DF3A6-BC32-4651-8E52-E45C8C46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20A57-CCA5-4337-913D-9F44098A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8394-4501-4F3A-BB61-829F8527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7BBD5-74C4-46FB-88C8-E96A9761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210C2-59EC-4E63-B542-B0902B2F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FD8B-81C9-4E8E-BA22-66760C7A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8AA28-E7E0-4CB2-8E99-95BC73B4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179E1-BC3C-4F19-9CD1-6300D3AA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E12-A140-4A7D-B574-E485EEDA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15C24-7168-4089-852B-EAFEF7C7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90A2-24E5-41C7-87E9-0B3A1403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64CE8-0482-44CE-A8FD-B064DC85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F05AD-A1E3-45ED-92C9-65E685FF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0305D-77AC-472E-A2C6-46C747D0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8F2C8-F4A2-4D98-B21C-E68EE17B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7A7F0-AE48-4B02-AF0C-4A5780E6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A6207-561C-48F8-99AE-8A49E2FB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2001-7A4A-461A-8AA7-05EFA84E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3C938-BC4D-4E16-8353-1B954CC8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8F2-D3D8-4E93-BAA5-3BAF5290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4EADB-0ECE-42DC-85C7-39390A4A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B4257-12B3-4C4C-8817-CB12A343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6DD63-0AC0-47CF-9D33-AA5193A0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86B5D-4563-40E4-9036-3582E437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877E8-3F8C-4175-8C4F-7AF94636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E7BB5-F208-454A-86A6-CF60FA9F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22138-330C-4884-BCD9-22A2F37F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04167-AAA3-44BD-B120-1E204F81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872F0-F28F-4F9E-BA08-F3C90AD9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92E26-38CE-405B-A81B-8EC0199C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60D-E13F-4BB1-95EF-6F67033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EF635-26BD-4284-A753-24D87386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2F521-464F-48C5-B3D0-0631A971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18305-540E-44E5-BE2F-B1D090E6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AD120-372D-4A67-B10F-A7267DE9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1FE77-F58F-426A-A28C-EDFD1787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0C9D8-7AC4-4FA0-93C3-F1F07F5C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E56EC-2CFF-4408-9528-DF578E33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F0118-C339-4E28-B108-8333A582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DFC3F-DD57-4E7C-8C17-33B23485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5BC1A-6DEE-4A34-9347-8E0F0615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12D7-8E63-4BF3-9DBD-8582D87041F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7A5D-6F07-4DAB-B725-052A3154AA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DDCE-2165-4E2A-9274-1B4E7A4BFC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D294-8EC2-46A7-A954-D9251CF551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2C9A-AEAA-42D5-85DC-B5113781F3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3FAB-5D33-417E-96F4-C1E5BEC2C9D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B088-1243-4551-8A35-CBBBEB3EF5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2896-2F6C-41DA-8EC3-99371E97A5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86B8-BA7A-4756-B47E-1975A8DC66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A16B-BBD5-4AEF-8379-F7FC5450DF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39D0-07E7-4C25-92DD-B2EAA741B7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BCA0-1F44-4720-85C0-2308A6F9328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49 Tá láska vzácna, úžas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o mu slávu vzdáv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ním sa s úct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láňajme;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z našich úst 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a z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ečný život, spasen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láska vzácna, úžas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nad ňu väčšiu nepozn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sám sa st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človek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 spásu večn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e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znášal hlad i biedu zn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krstom svoj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klad d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pokušením zvíťaz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diný bez hriechu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, vďaku vzda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za nás mrieť bol hotov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kríž, na ktor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mrel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pre hriech patr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ým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Božej moc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ŕtvychvst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voju cirkev pamätal;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Ducha zosl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nu 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erným sľúbil na po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49:26Z</dcterms:modified>
  <cp:revision>11</cp:revision>
  <dc:subject/>
  <dc:title>Je veľký náš Pán, on slávy je Kráľ Nech do všetkých strán  spev vrúcnych znie chvál.</dc:title>
</cp:coreProperties>
</file>